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735763" cy="9799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3B658-1E5C-4F49-83DD-617E9F7AD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F231E-BACC-433D-B3D3-4479FBB08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676F3-CA80-49C2-AF5C-F24169BDE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88709-75CC-4132-9EF7-76EB74998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9F224-3047-4381-B7D1-500A6944E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28377-4059-428A-9369-29E916E1A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D96CF-4FCC-49EC-8A77-B9E16DED3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3C333-55D1-47D4-A11C-31DA4515C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02F8C-746E-4CC4-B165-1595204C3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EFE69-AE9C-4778-9406-97EBB7749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44455-3A07-455C-88B2-3906A5CBC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882A4-081C-4C50-98FE-F517F81EA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E826F-A03B-4771-8B94-49730CB38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B897C-D643-4F8A-AA65-F8C9F237D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58F84-70F4-44F6-B402-FAAEBCCEF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3CFC9-F622-47E5-8B3F-1062381F4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03B53-0BB5-4E0A-A0E3-876A70F4E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91560-D5C2-4B7E-85DF-029F6C395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E11CA-8276-4DCC-99E2-E7A1C9761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010DA-B9FE-4B3A-BF4E-B4CFE3E90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41583-2504-4387-9C5E-C0B2F6EAE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96A89-DDA5-48B8-9965-D367F55D2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63786-A80B-4106-A2A5-2DF8BC6CA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8C8E6-9706-4D2C-B9AF-469ADCEAF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3A46B-7528-469E-8FA7-B1A452BA3FD5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>
              <a:gd name="textAreaLeft" fmla="*/ 0 w 7925040"/>
              <a:gd name="textAreaRight" fmla="*/ 7925400 w 79250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47B9B-9464-4E03-BE38-B4DE264A9A00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2"/>
          <p:cNvSpPr/>
          <p:nvPr/>
        </p:nvSpPr>
        <p:spPr>
          <a:xfrm>
            <a:off x="2217240" y="1557360"/>
            <a:ext cx="4769640" cy="39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6633"/>
                </a:solidFill>
                <a:latin typeface="Times New Roman"/>
              </a:rPr>
              <a:t>第二篇 医学原生动物</a:t>
            </a:r>
            <a:endParaRPr b="0" lang="en-US" sz="4800" spc="-1" strike="noStrike">
              <a:solidFill>
                <a:srgbClr val="ff33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33"/>
                </a:solidFill>
                <a:latin typeface="Times New Roman"/>
              </a:rPr>
              <a:t>Medical Protozoa</a:t>
            </a:r>
            <a:endParaRPr b="0" lang="en-US" sz="4800" spc="-1" strike="noStrike">
              <a:solidFill>
                <a:srgbClr val="ff33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33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鱼艳荣</a:t>
            </a:r>
            <a:r>
              <a:rPr b="1" lang="en-US" sz="3600" spc="-1" strike="noStrike">
                <a:solidFill>
                  <a:srgbClr val="006633"/>
                </a:solidFill>
                <a:latin typeface="华文行楷"/>
                <a:ea typeface="华文行楷"/>
              </a:rPr>
              <a:t> </a:t>
            </a:r>
            <a:endParaRPr b="0" lang="en-US" sz="36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Box 2"/>
          <p:cNvSpPr/>
          <p:nvPr/>
        </p:nvSpPr>
        <p:spPr>
          <a:xfrm>
            <a:off x="900000" y="2708280"/>
            <a:ext cx="7488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眼虫门，动基体纲                      杜氏利什曼原虫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副基体门，毛滴纲                      阴道毛滴虫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后滴虫门，双滴纲                      蓝氏贾第鞭毛虫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9" name="TextBox 3"/>
          <p:cNvSpPr/>
          <p:nvPr/>
        </p:nvSpPr>
        <p:spPr>
          <a:xfrm>
            <a:off x="611280" y="333360"/>
            <a:ext cx="201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b812f"/>
                </a:solidFill>
                <a:latin typeface="Arial"/>
              </a:rPr>
              <a:t>原虫分类</a:t>
            </a:r>
            <a:endParaRPr b="0" lang="en-US" sz="32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原生动物界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20" name="TextBox 4"/>
          <p:cNvSpPr/>
          <p:nvPr/>
        </p:nvSpPr>
        <p:spPr>
          <a:xfrm>
            <a:off x="900000" y="1773360"/>
            <a:ext cx="748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阿米巴门，内阿米巴纲              溶组织内阿米巴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阿米巴纲                 棘阿米巴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21" name="Rectangle 9"/>
          <p:cNvSpPr/>
          <p:nvPr/>
        </p:nvSpPr>
        <p:spPr>
          <a:xfrm>
            <a:off x="900000" y="4149720"/>
            <a:ext cx="707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孢子虫门，球虫纲                       疟原虫，刚地弓形虫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透色动物门，异叶足纲                福氏耐格里阿米巴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22" name="Rectangle 10"/>
          <p:cNvSpPr/>
          <p:nvPr/>
        </p:nvSpPr>
        <p:spPr>
          <a:xfrm>
            <a:off x="873000" y="5157720"/>
            <a:ext cx="636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纤毛虫门，直口纲                              结肠小袋纤毛虫</a:t>
            </a: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68000" y="1268280"/>
            <a:ext cx="8496360" cy="48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6633"/>
                </a:solidFill>
                <a:latin typeface="Arial"/>
                <a:ea typeface="黑体"/>
              </a:rPr>
              <a:t>                     </a:t>
            </a:r>
            <a:r>
              <a:rPr b="0" lang="zh-CN" sz="3600" spc="-1" strike="noStrike">
                <a:solidFill>
                  <a:srgbClr val="006633"/>
                </a:solidFill>
                <a:latin typeface="Arial"/>
                <a:ea typeface="黑体"/>
              </a:rPr>
              <a:t>第六章  医学原生动物概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6633"/>
                </a:solidFill>
                <a:latin typeface="Arial"/>
                <a:ea typeface="黑体"/>
              </a:rPr>
              <a:t>原生动物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toz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是具有完整生理功能的</a:t>
            </a:r>
            <a:r>
              <a:rPr b="0" lang="zh-CN" sz="2800" spc="-1" strike="noStrike">
                <a:solidFill>
                  <a:srgbClr val="006633"/>
                </a:solidFill>
                <a:latin typeface="Arial"/>
                <a:ea typeface="黑体"/>
              </a:rPr>
              <a:t>单细胞真核生物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寄生于人体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管腔、体液、组织或细胞内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致病性或非致病性的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原虫称为</a:t>
            </a:r>
            <a:r>
              <a:rPr b="1" lang="zh-CN" sz="2800" spc="-1" strike="noStrike">
                <a:solidFill>
                  <a:srgbClr val="006633"/>
                </a:solidFill>
                <a:latin typeface="Times New Roman"/>
              </a:rPr>
              <a:t>医学原虫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edical protozoa)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4"/>
          <p:cNvSpPr/>
          <p:nvPr/>
        </p:nvSpPr>
        <p:spPr>
          <a:xfrm>
            <a:off x="395280" y="836640"/>
            <a:ext cx="403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33"/>
                </a:solidFill>
                <a:latin typeface="Times New Roman"/>
              </a:rPr>
              <a:t>一、形态</a:t>
            </a:r>
            <a:endParaRPr b="0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1692360" y="1700280"/>
            <a:ext cx="472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细胞膜、细胞质、细胞核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0" name="Text Box 6"/>
          <p:cNvSpPr/>
          <p:nvPr/>
        </p:nvSpPr>
        <p:spPr>
          <a:xfrm>
            <a:off x="755640" y="2421000"/>
            <a:ext cx="632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细胞膜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包被在虫体表面，又称表膜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1" name="Text Box 7"/>
          <p:cNvSpPr/>
          <p:nvPr/>
        </p:nvSpPr>
        <p:spPr>
          <a:xfrm>
            <a:off x="900000" y="3141720"/>
            <a:ext cx="632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细胞质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由基质、细胞器、内含物组成。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2" name="Text Box 14"/>
          <p:cNvSpPr/>
          <p:nvPr/>
        </p:nvSpPr>
        <p:spPr>
          <a:xfrm>
            <a:off x="900000" y="3860640"/>
            <a:ext cx="70866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华文中宋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华文中宋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华文中宋"/>
              </a:rPr>
              <a:t>）基质</a:t>
            </a:r>
            <a:r>
              <a:rPr b="1" i="1" lang="zh-CN" sz="2400" spc="-1" strike="noStrike">
                <a:solidFill>
                  <a:srgbClr val="000000"/>
                </a:solidFill>
                <a:latin typeface="Tahoma"/>
              </a:rPr>
              <a:t>：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外质       内质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） 运动细胞器 ：    伪足   鞭毛   纤毛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）内含物：伸缩泡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2"/>
          <p:cNvSpPr/>
          <p:nvPr/>
        </p:nvSpPr>
        <p:spPr>
          <a:xfrm>
            <a:off x="684360" y="620640"/>
            <a:ext cx="814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细胞核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核膜、核质、染色质、核仁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4" name="Text Box 3"/>
          <p:cNvSpPr/>
          <p:nvPr/>
        </p:nvSpPr>
        <p:spPr>
          <a:xfrm>
            <a:off x="611280" y="2492280"/>
            <a:ext cx="82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寄生在人体的原虫多为泡状核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esicula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ucleu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611280" y="3141720"/>
          <a:ext cx="7921440" cy="2519280"/>
        </p:xfrm>
        <a:graphic>
          <a:graphicData uri="http://schemas.openxmlformats.org/drawingml/2006/table">
            <a:tbl>
              <a:tblPr/>
              <a:tblGrid>
                <a:gridCol w="1087200"/>
                <a:gridCol w="3864240"/>
                <a:gridCol w="2970000"/>
              </a:tblGrid>
              <a:tr h="1069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</a:t>
                      </a: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泡状核</a:t>
                      </a:r>
                      <a:endParaRPr b="0" lang="en-US" sz="22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（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esicular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　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cleus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）</a:t>
                      </a:r>
                      <a:endParaRPr b="0" lang="en-US" sz="22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实质核</a:t>
                      </a:r>
                      <a:endParaRPr b="0" lang="en-US" sz="22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Compact nucleus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）</a:t>
                      </a:r>
                      <a:endParaRPr b="0" lang="en-US" sz="22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6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染色质</a:t>
                      </a:r>
                      <a:endParaRPr b="0" lang="en-US" sz="22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少，呈颗粒状，分布于核质和核膜内缘  </a:t>
                      </a:r>
                      <a:endParaRPr b="0" lang="en-US" sz="22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丰富</a:t>
                      </a:r>
                      <a:endParaRPr b="0" lang="en-US" sz="22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核仁</a:t>
                      </a:r>
                      <a:endParaRPr b="0" lang="en-US" sz="22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有一个粒状核仁</a:t>
                      </a:r>
                      <a:endParaRPr b="0" lang="en-US" sz="22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常有一个以上的核仁</a:t>
                      </a:r>
                      <a:endParaRPr b="0" lang="en-US" sz="22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6" name="Text Box 67"/>
          <p:cNvSpPr/>
          <p:nvPr/>
        </p:nvSpPr>
        <p:spPr>
          <a:xfrm>
            <a:off x="395280" y="1268280"/>
            <a:ext cx="785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核内的染色质和核仁，是生存、繁殖的遗传物质。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2"/>
          <p:cNvSpPr/>
          <p:nvPr/>
        </p:nvSpPr>
        <p:spPr>
          <a:xfrm>
            <a:off x="611280" y="476280"/>
            <a:ext cx="38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33"/>
                </a:solidFill>
                <a:latin typeface="Times New Roman"/>
              </a:rPr>
              <a:t>二、生理</a:t>
            </a:r>
            <a:endParaRPr b="0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684360" y="1268280"/>
            <a:ext cx="79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spcBef>
                <a:spcPts val="1125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运动　通过伪足的伸缩、鞭毛或纤毛的摆动而运动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9" name="Rectangle 3"/>
          <p:cNvSpPr/>
          <p:nvPr/>
        </p:nvSpPr>
        <p:spPr>
          <a:xfrm>
            <a:off x="755640" y="2133720"/>
            <a:ext cx="7715160" cy="33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1680" indent="-571680"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营养　通过表膜直接渗透、胞饮或吞噬摄取营养；有些原虫通过胞口摄食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  <a:p>
            <a:pPr marL="571680" indent="-571680"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  <a:p>
            <a:pPr marL="571680" indent="-571680"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代谢　复杂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  <a:p>
            <a:pPr marL="571680" indent="-571680"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血液内   分解葡萄糖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  <a:p>
            <a:pPr marL="571680" indent="-571680"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肠道内   糖酵解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Group 13"/>
          <p:cNvGrpSpPr/>
          <p:nvPr/>
        </p:nvGrpSpPr>
        <p:grpSpPr>
          <a:xfrm>
            <a:off x="1000080" y="1143000"/>
            <a:ext cx="7740720" cy="3699720"/>
            <a:chOff x="1000080" y="1143000"/>
            <a:chExt cx="7740720" cy="3699720"/>
          </a:xfrm>
        </p:grpSpPr>
        <p:sp>
          <p:nvSpPr>
            <p:cNvPr id="101" name="Text Box 3"/>
            <p:cNvSpPr/>
            <p:nvPr/>
          </p:nvSpPr>
          <p:spPr>
            <a:xfrm>
              <a:off x="1000080" y="1861920"/>
              <a:ext cx="1511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Verdana"/>
                </a:rPr>
                <a:t>无性生殖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102" name="Text Box 4"/>
            <p:cNvSpPr/>
            <p:nvPr/>
          </p:nvSpPr>
          <p:spPr>
            <a:xfrm>
              <a:off x="1000080" y="3951000"/>
              <a:ext cx="144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Verdana"/>
                </a:rPr>
                <a:t>有性生殖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103" name="Text Box 5"/>
            <p:cNvSpPr/>
            <p:nvPr/>
          </p:nvSpPr>
          <p:spPr>
            <a:xfrm>
              <a:off x="2641680" y="1143000"/>
              <a:ext cx="4911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二分裂：利什曼原虫无鞭毛体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104" name="Text Box 6"/>
            <p:cNvSpPr/>
            <p:nvPr/>
          </p:nvSpPr>
          <p:spPr>
            <a:xfrm>
              <a:off x="2641680" y="1822320"/>
              <a:ext cx="512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多分裂：疟原虫红内期裂体生殖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105" name="Text Box 7"/>
            <p:cNvSpPr/>
            <p:nvPr/>
          </p:nvSpPr>
          <p:spPr>
            <a:xfrm>
              <a:off x="2641680" y="2417760"/>
              <a:ext cx="609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芽殖：弓形虫滋养体内二分裂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106" name="AutoShape 8"/>
            <p:cNvSpPr/>
            <p:nvPr/>
          </p:nvSpPr>
          <p:spPr>
            <a:xfrm>
              <a:off x="2355840" y="1312920"/>
              <a:ext cx="379440" cy="1614240"/>
            </a:xfrm>
            <a:custGeom>
              <a:avLst/>
              <a:gdLst>
                <a:gd name="textAreaLeft" fmla="*/ 242640 w 379440"/>
                <a:gd name="textAreaRight" fmla="*/ 379800 w 379440"/>
                <a:gd name="textAreaTop" fmla="*/ 41760 h 1614240"/>
                <a:gd name="textAreaBottom" fmla="*/ 1572480 h 1614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107" name="Text Box 9"/>
            <p:cNvSpPr/>
            <p:nvPr/>
          </p:nvSpPr>
          <p:spPr>
            <a:xfrm>
              <a:off x="2441520" y="3662280"/>
              <a:ext cx="302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配子生殖：疟原虫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108" name="Text Box 10"/>
            <p:cNvSpPr/>
            <p:nvPr/>
          </p:nvSpPr>
          <p:spPr>
            <a:xfrm>
              <a:off x="2441520" y="4383000"/>
              <a:ext cx="4000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结合生殖：结肠小袋纤毛虫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109" name="AutoShape 11"/>
            <p:cNvSpPr/>
            <p:nvPr/>
          </p:nvSpPr>
          <p:spPr>
            <a:xfrm>
              <a:off x="2355840" y="3778200"/>
              <a:ext cx="93600" cy="934920"/>
            </a:xfrm>
            <a:custGeom>
              <a:avLst/>
              <a:gdLst>
                <a:gd name="textAreaLeft" fmla="*/ 59760 w 93600"/>
                <a:gd name="textAreaRight" fmla="*/ 93960 w 93600"/>
                <a:gd name="textAreaTop" fmla="*/ 24120 h 934920"/>
                <a:gd name="textAreaBottom" fmla="*/ 910800 h 93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3300"/>
                </a:solidFill>
                <a:latin typeface="Arial"/>
              </a:endParaRPr>
            </a:p>
          </p:txBody>
        </p:sp>
      </p:grpSp>
      <p:sp>
        <p:nvSpPr>
          <p:cNvPr id="110" name="Rectangle 12"/>
          <p:cNvSpPr/>
          <p:nvPr/>
        </p:nvSpPr>
        <p:spPr>
          <a:xfrm>
            <a:off x="1142280" y="428760"/>
            <a:ext cx="162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.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生殖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　</a:t>
            </a:r>
            <a:endParaRPr b="0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1" name="TextBox 12"/>
          <p:cNvSpPr/>
          <p:nvPr/>
        </p:nvSpPr>
        <p:spPr>
          <a:xfrm>
            <a:off x="928800" y="5072040"/>
            <a:ext cx="7786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Arial"/>
              </a:rPr>
              <a:t>世代交替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ternation of generation)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：生活史中存在有性和无性两种交替的增殖方式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如疟原虫和弓形虫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2"/>
          <p:cNvSpPr/>
          <p:nvPr/>
        </p:nvSpPr>
        <p:spPr>
          <a:xfrm>
            <a:off x="611280" y="1268280"/>
            <a:ext cx="8064360" cy="354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滋养体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rophozoit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：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活动、摄食、生殖阶段     致病阶段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  <a:p>
            <a:pPr marL="457200" indent="-45720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包囊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ys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、卵囊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ocys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：静止期      传播阶段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  <a:p>
            <a:pPr marL="457200" indent="-45720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  <a:p>
            <a:pPr marL="457200" indent="-45720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00"/>
                </a:solidFill>
                <a:latin typeface="Times New Roman"/>
              </a:rPr>
              <a:t>1. </a:t>
            </a:r>
            <a:r>
              <a:rPr b="1" lang="zh-CN" sz="2800" spc="-1" strike="noStrike">
                <a:solidFill>
                  <a:srgbClr val="996600"/>
                </a:solidFill>
                <a:latin typeface="Times New Roman"/>
              </a:rPr>
              <a:t>人际传播型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生活史只需要一个宿主，通过接触或传播媒介的机械携带在人与人之间传播。 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  <a:p>
            <a:pPr marL="457200" indent="-45720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如：阴道毛滴虫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  <a:p>
            <a:pPr marL="457200" indent="-45720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溶组织内阿米巴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  <a:p>
            <a:pPr marL="457200" indent="-45720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3" name="Rectangle 5"/>
          <p:cNvSpPr/>
          <p:nvPr/>
        </p:nvSpPr>
        <p:spPr>
          <a:xfrm>
            <a:off x="684360" y="404640"/>
            <a:ext cx="45720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33"/>
                </a:solidFill>
                <a:latin typeface="Times New Roman"/>
              </a:rPr>
              <a:t>三、 生活史</a:t>
            </a:r>
            <a:endParaRPr b="0" lang="en-US" sz="36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539280" y="475920"/>
            <a:ext cx="820908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00"/>
                </a:solidFill>
                <a:latin typeface="Times New Roman"/>
              </a:rPr>
              <a:t>2. </a:t>
            </a:r>
            <a:r>
              <a:rPr b="1" lang="zh-CN" sz="2800" spc="-1" strike="noStrike">
                <a:solidFill>
                  <a:srgbClr val="996600"/>
                </a:solidFill>
                <a:latin typeface="Times New Roman"/>
              </a:rPr>
              <a:t>人与动物间</a:t>
            </a:r>
            <a:r>
              <a:rPr b="1" lang="zh-CN" sz="2800" spc="-1" strike="noStrike">
                <a:solidFill>
                  <a:srgbClr val="996600"/>
                </a:solidFill>
                <a:latin typeface="Arial"/>
              </a:rPr>
              <a:t>传播型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生活史需要一种以上的脊椎动物，分别作为其终宿主和中间宿主，感染阶段可在二者之间传播，主要经口感染。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如：刚地弓形虫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00"/>
                </a:solidFill>
                <a:latin typeface="Times New Roman"/>
              </a:rPr>
              <a:t>3.</a:t>
            </a:r>
            <a:r>
              <a:rPr b="1" lang="zh-CN" sz="2800" spc="-1" strike="noStrike">
                <a:solidFill>
                  <a:srgbClr val="9966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996600"/>
                </a:solidFill>
                <a:latin typeface="宋体"/>
              </a:rPr>
              <a:t>虫媒传播型</a:t>
            </a:r>
            <a:r>
              <a:rPr b="1" lang="zh-CN" sz="2800" spc="-1" strike="noStrike">
                <a:solidFill>
                  <a:srgbClr val="996600"/>
                </a:solidFill>
                <a:latin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生活史中原虫需在吸血昆虫体内发育、进行有性或无性生殖。寄生原虫通过媒介昆虫叮咬而传播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如蚊传播疟原虫。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1026"/>
          <p:cNvSpPr/>
          <p:nvPr/>
        </p:nvSpPr>
        <p:spPr>
          <a:xfrm>
            <a:off x="611280" y="333360"/>
            <a:ext cx="4572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b812f"/>
                </a:solidFill>
                <a:latin typeface="Times New Roman"/>
              </a:rPr>
              <a:t>四、 致病</a:t>
            </a:r>
            <a:endParaRPr b="0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6" name="Rectangle 1027"/>
          <p:cNvSpPr/>
          <p:nvPr/>
        </p:nvSpPr>
        <p:spPr>
          <a:xfrm>
            <a:off x="971640" y="2781360"/>
            <a:ext cx="741672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增殖致病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: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疟原虫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播散致病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: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溶组织内阿米巴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机会致病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: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刚地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弓形虫，隐孢子虫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7" name="Text Box 1028"/>
          <p:cNvSpPr/>
          <p:nvPr/>
        </p:nvSpPr>
        <p:spPr>
          <a:xfrm>
            <a:off x="755640" y="1341360"/>
            <a:ext cx="711036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与原虫的种株、毒力、数量、寄生部位、其他致病因素以及宿主免疫状态有关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鱼艳荣</dc:creator>
  <dc:description/>
  <dc:language>en-US</dc:language>
  <cp:lastModifiedBy>hzg</cp:lastModifiedBy>
  <dcterms:modified xsi:type="dcterms:W3CDTF">2015-10-05T09:45:15Z</dcterms:modified>
  <cp:revision>401</cp:revision>
  <dc:subject/>
  <dc:title>PowerPoint Presentation</dc:title>
</cp:coreProperties>
</file>